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460-0677-4E2C-9ED2-B7396134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2D1-29A9-409E-A6EB-A2F9760C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74A-916E-4E76-A485-A7A7878E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7D5-08E7-43CD-83B4-AA2D3A50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FC3-A4E6-4654-B9E4-8B238AB9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815-65D6-4978-A2E4-346EF459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F13-0A01-42D7-9FB7-76006732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088-C138-4446-A979-19FC52D1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342-28EC-4582-88AF-2E394C94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A29-DCBA-4C40-B1E1-41138F07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4D3-2C51-4F47-8F39-A3BD2FF0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730-C9BE-4BD7-9A2D-0E61C172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0188-3431-4DA4-BB70-9ED2EB874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oahoctro.vn/Upload/20080126/Top%20-%20Big%20bang.jpg" TargetMode="External"/><Relationship Id="rId2" Type="http://schemas.openxmlformats.org/officeDocument/2006/relationships/hyperlink" Target="http://www.gossipboulevard.com/wp-content/uploads/2008/02/bradpitt.jpg" TargetMode="External"/><Relationship Id="rId3" Type="http://schemas.openxmlformats.org/officeDocument/2006/relationships/hyperlink" Target="http://www.claricehadalittlelamb.net/gossip/upload/Jessica-alba_bikini.jpg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B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a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47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9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2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limbic syst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mbic system is responsible for memories, hunger, love, and all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it, you’re an emotionless thing that can’t love. Or make l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so good about the limbic syst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se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fr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everything you want and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nly 15 dollars, you can get a newer, better, and cooler limb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ahoctro.vn/Upload/20080126/Top%20-%20Big%20bang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ssipboulevard.com/wp-content/uploads/2008/02/bradpitt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laricehadalittlelamb.net/gossip/upload/Jessica-alba_bikini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23:46:17Z</dcterms:created>
  <dc:creator>Peter Lee</dc:creator>
  <dc:description/>
  <dc:language>en-US</dc:language>
  <cp:lastModifiedBy>Peter Lee</cp:lastModifiedBy>
  <dcterms:modified xsi:type="dcterms:W3CDTF">2009-02-11T03:26:09Z</dcterms:modified>
  <cp:revision>1</cp:revision>
  <dc:subject/>
  <dc:title>LIMBIC SYSTEM</dc:title>
</cp:coreProperties>
</file>